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5E39-1B7D-4EC6-A2F4-6E1A6AD3A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3FC1-8E14-4E7C-BBE8-C2BFCF7DD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726080"/>
            <a:ext cx="54864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Video: Stylistic concerns, shooting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mer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udio: tips in terms of best aud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ghting: what is 3 point, standard, altern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Justins docum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3B34-7ECF-451A-AC0C-A348B94C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726080"/>
            <a:ext cx="54864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Video: Stylistic concerns, shooting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mer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udio: tips in terms of best aud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ghting: what is 3 point, standard, altern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Justins docum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86C0-A9A9-4388-91AF-FB3845342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E956-6D76-4644-9014-9E8DCD4E8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8621-02B8-4517-ABFC-44146BDF8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84A-39CC-4A68-9A0B-8A4FA418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9AB-EB56-41EA-8B50-6A2B15E5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3F0-C00B-4604-8ACE-A35CFAAA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293-DCCA-4EEC-9A9C-E14FDD02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3B5B-5C1F-4952-ACB3-9CB6C9A6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73A0-2657-4C4F-AC1A-6D22E21C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29DC-9D09-469D-996C-42E00BED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A330-A4B0-46CD-BF34-97A36D6A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15C2-7567-4B4E-9510-9B1D7D51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9C36-6BC0-45D1-A0D7-E84DA33A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815B-F721-42A2-B294-0BB0C15D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636-93C1-4C8A-9271-09C0AC1F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66BC-316D-423E-81D5-BA2CAAE8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B293-9857-4FE0-B2C5-D6F90547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65F5-AC20-4E85-806D-58F25C3E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9E72-6CEB-47E7-97A7-640BD5C0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2511-BDEF-41D7-8E44-5F10D161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D13F-FC63-4946-BE22-56DDFB3E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8211-C661-4840-8B88-05E3DBA5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DBF5-62F6-4375-91A2-0E8ABC3A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2D93-668E-4128-9294-4323B388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222F-C18F-46C0-B130-C0473D42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1ED-C12E-48BA-BDDF-4B0593D5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F490-0E9C-42FF-8E92-07F19097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0341-4517-4895-A4C4-E4F11F5B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46FE-44D6-4DF7-9F0E-40A11EF0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7962-E8BC-4A12-ACB6-3373C4B4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18E4-3E91-41FC-B430-995BA149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17A5-9A47-4425-AE73-1623A0A4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9FE7-3A9D-4286-B5E8-DA6EF786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23A3-93FE-42C3-B286-F1C78FF8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7E472-B527-4EC0-BF84-B9F0FA65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EF821-3871-49BC-96DD-88A4C7B4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E2F-6B72-42D0-AE96-ECEFE0F6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61D8-C659-4C9F-A183-998B2FE1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F986-555B-4D70-B951-483D736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AF7E-A29F-4B0D-A598-CD453FB6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7A7EC-4F6E-466D-AA41-9F6B0FA1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C0A6E-E2AF-4A84-BA96-0B67AD5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D4C1-F807-48A4-B729-CA8E29D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8EB7-63B0-4175-A358-9EE16AAE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C0C0-ED41-4A4F-83FD-DE47E3AA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D5C9F-FAEC-4A69-8955-577ACB6D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C6098-81A1-43FA-B1F3-E33ED721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82E-8DF7-454A-821C-EA72DF81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05924-7BB5-4BBE-8156-74C0C860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0A9E-9A0F-48C7-9BE7-6EC19890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0D9E1-8296-48F8-9018-1F262FC6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81E7-E5E9-49FC-92F4-9A8E4C69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7E697-9A11-4FAA-AC8E-6D4EF715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DD8D-8059-45AB-84F1-AD494A8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EB20C-A7D2-47E7-A386-BCA4FC5B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A0061-FBA2-4B2B-B0D8-D4DB2DE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AA60F-188A-4360-8ED8-FF3B465C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CA92-A4F3-44EB-AE58-997F2538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4E8-08B3-44C7-96E2-1A0CA194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C3849-7153-4140-A1CC-5DEEDD4C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6EF7B-08DB-4CEF-9A2B-19993B1B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88598-DDA5-4AC5-A822-A37F5D34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FCF6A-5881-40B9-98E8-61F68DFA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EFD5E-9117-4633-82B3-46C18402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50662-F483-434F-8109-96F52736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D835B-744B-4147-AA74-A30F5099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2885E-6EAA-4BB9-ACD4-CD6A1DB9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12C3E-F14A-464A-9DDD-234FFA07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2173B-69C7-4FC8-A666-A3AA14E0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1AD-50AC-4EA9-B07B-F707B643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76DD6-2EEE-424C-8C6D-DBAEA6FA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62B1F-882D-4887-8938-EDC1D997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394F4-E0FC-47B1-9172-88954EBB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54A13-1895-43FB-AC73-BEC199AE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ACE05-FA37-40C4-87B2-FB30ADF1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4BEB-A905-4775-8752-94814327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636F1-EB55-4CAF-AA13-196F4CCB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4C898-54E6-431C-B176-9C227688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8E26-DC1B-4B49-9EAB-CB6E0870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993EC-1B7C-4E30-BA34-081A7F12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785-4B21-458C-A521-98DBCE7D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4954C-1E30-4113-8BFF-50DC18FB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D611A-FD7E-4D66-9E28-9EAD3FF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330EA-E512-4461-BA38-28B752D5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4D29D-462D-4341-87D3-4248FCD9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359B2-C268-4BE0-AA77-7B849511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89D77-4E33-47C5-AEDB-A46EB265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5D110-049C-4EE6-94A5-74500219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386D6-7591-4E65-9474-1F48DD06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CBEE9-E10C-46D7-9C77-6044F7CB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2A895-0FCD-46AD-A83D-5ED662A8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648-5C8D-4888-9A65-703F7232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371AB-45A3-4329-8485-FF9D32CE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26E92-CD6D-40C5-9780-3BA53468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9150-866F-4FA2-8898-AB0B7D7F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C46E2-EA75-4EB8-9302-6D0A0AB2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F216B-BB83-4736-BC9C-E0867F13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E7B30-6DA5-4E70-8068-01D6C482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8CE9D-5E88-4E3A-BB11-E9B5405B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71EE-BC8C-4C31-B526-6A56C31ED2E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8553-3DA1-4972-8B28-47629C81C91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42B7-4005-4730-A542-32456FBE4B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50EA-5DC2-43EB-A088-73B6F76EFEA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793C-DDAA-456B-89E6-52F1CB9FBD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A8D3-C46A-4D43-BA60-0981AB87579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DE83-393B-479B-BEB9-972876460EB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06CD-3BFF-4212-A43A-6559F37842C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9C92-0BB9-44D4-B8E3-D9E237A5342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F7F6-232A-4C91-9416-C50972AFECF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filmsite.org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z1.jpg"/>
          <p:cNvPicPr/>
          <p:nvPr/>
        </p:nvPicPr>
        <p:blipFill>
          <a:blip r:embed="rId2"/>
          <a:stretch/>
        </p:blipFill>
        <p:spPr>
          <a:xfrm>
            <a:off x="304920" y="5105520"/>
            <a:ext cx="2336760" cy="1828800"/>
          </a:xfrm>
          <a:prstGeom prst="rect">
            <a:avLst/>
          </a:prstGeom>
          <a:ln w="0">
            <a:noFill/>
          </a:ln>
        </p:spPr>
      </p:pic>
      <p:pic>
        <p:nvPicPr>
          <p:cNvPr id="354" name="Rectangle 2" descr=""/>
          <p:cNvPicPr/>
          <p:nvPr/>
        </p:nvPicPr>
        <p:blipFill>
          <a:blip r:embed="rId3"/>
          <a:stretch/>
        </p:blipFill>
        <p:spPr>
          <a:xfrm>
            <a:off x="835200" y="907920"/>
            <a:ext cx="77785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The way we set up a shot can affect the meaning.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We can create different “feels” to our shots by looking at composition.  The basic way to do this is to look at your screen as a 3X3 gri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spec03_2"/>
          <p:cNvPicPr/>
          <p:nvPr/>
        </p:nvPicPr>
        <p:blipFill>
          <a:blip r:embed="rId2"/>
          <a:stretch/>
        </p:blipFill>
        <p:spPr>
          <a:xfrm>
            <a:off x="1722600" y="1916280"/>
            <a:ext cx="5297400" cy="39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spec03_2"/>
          <p:cNvPicPr/>
          <p:nvPr/>
        </p:nvPicPr>
        <p:blipFill>
          <a:blip r:embed="rId2"/>
          <a:stretch/>
        </p:blipFill>
        <p:spPr>
          <a:xfrm>
            <a:off x="1763640" y="1916280"/>
            <a:ext cx="5297400" cy="3974760"/>
          </a:xfrm>
          <a:prstGeom prst="rect">
            <a:avLst/>
          </a:prstGeom>
          <a:ln w="0">
            <a:noFill/>
          </a:ln>
        </p:spPr>
      </p:pic>
      <p:sp>
        <p:nvSpPr>
          <p:cNvPr id="384" name="Line 4"/>
          <p:cNvSpPr/>
          <p:nvPr/>
        </p:nvSpPr>
        <p:spPr>
          <a:xfrm>
            <a:off x="1763640" y="3284640"/>
            <a:ext cx="5329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"/>
          <p:cNvSpPr/>
          <p:nvPr/>
        </p:nvSpPr>
        <p:spPr>
          <a:xfrm>
            <a:off x="1763640" y="4653000"/>
            <a:ext cx="5329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3564000" y="1916280"/>
            <a:ext cx="0" cy="396072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"/>
          <p:cNvSpPr/>
          <p:nvPr/>
        </p:nvSpPr>
        <p:spPr>
          <a:xfrm>
            <a:off x="5364000" y="1916280"/>
            <a:ext cx="0" cy="396072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spec03_3"/>
          <p:cNvPicPr/>
          <p:nvPr/>
        </p:nvPicPr>
        <p:blipFill>
          <a:blip r:embed="rId2"/>
          <a:stretch/>
        </p:blipFill>
        <p:spPr>
          <a:xfrm>
            <a:off x="1692360" y="1989000"/>
            <a:ext cx="52974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spec03_3"/>
          <p:cNvPicPr/>
          <p:nvPr/>
        </p:nvPicPr>
        <p:blipFill>
          <a:blip r:embed="rId2"/>
          <a:stretch/>
        </p:blipFill>
        <p:spPr>
          <a:xfrm>
            <a:off x="1692360" y="1989000"/>
            <a:ext cx="5297400" cy="3975120"/>
          </a:xfrm>
          <a:prstGeom prst="rect">
            <a:avLst/>
          </a:prstGeom>
          <a:ln w="0">
            <a:noFill/>
          </a:ln>
        </p:spPr>
      </p:pic>
      <p:sp>
        <p:nvSpPr>
          <p:cNvPr id="392" name="Line 4"/>
          <p:cNvSpPr/>
          <p:nvPr/>
        </p:nvSpPr>
        <p:spPr>
          <a:xfrm>
            <a:off x="1692360" y="3284640"/>
            <a:ext cx="5329080" cy="0"/>
          </a:xfrm>
          <a:prstGeom prst="line">
            <a:avLst/>
          </a:prstGeom>
          <a:ln w="7632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692360" y="4653000"/>
            <a:ext cx="5329080" cy="0"/>
          </a:xfrm>
          <a:prstGeom prst="line">
            <a:avLst/>
          </a:prstGeom>
          <a:ln w="7632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3492360" y="1916280"/>
            <a:ext cx="0" cy="3960720"/>
          </a:xfrm>
          <a:prstGeom prst="line">
            <a:avLst/>
          </a:prstGeom>
          <a:ln w="7632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5292720" y="1916280"/>
            <a:ext cx="0" cy="3960720"/>
          </a:xfrm>
          <a:prstGeom prst="line">
            <a:avLst/>
          </a:prstGeom>
          <a:ln w="7632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e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dea, Story, Script, Storyboard, Pl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cation shoot, Atmos/ Nat sound, Music and Composi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st Prod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LE, Graphics, Sound Desig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Arial"/>
                <a:ea typeface="Arial"/>
              </a:rPr>
              <a:t>Drift Media © 2008 www.driftmedia.com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scan0002"/>
          <p:cNvPicPr/>
          <p:nvPr/>
        </p:nvPicPr>
        <p:blipFill>
          <a:blip r:embed="rId2">
            <a:lum contrast="12000"/>
          </a:blip>
          <a:srcRect l="6550" t="7515" r="9980" b="0"/>
          <a:stretch/>
        </p:blipFill>
        <p:spPr>
          <a:xfrm>
            <a:off x="1619280" y="1916280"/>
            <a:ext cx="5538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ing what you’ve learnt, shoot the storyboard provided.  Don’t forget production dialogue and sl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have 1 hour (roughly 10 minutes per shot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UNCH BREA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worke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didn’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iest par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rdest par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e thing you’d do differently next tim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68360" y="1762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tinuous roll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os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dio not given respec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dit too subjectiv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om Town Of Choice to School Of Choice…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re we are coming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re we want to get to, and how we’ll get the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8360" y="1762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time between hitting record and starting the 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ns too long in dur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ns too wide in ar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mera Zo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mera shak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rd lights- intense “spot” lights which casts shadow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ft Lights- light is reflected, throws little shado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90400" indent="-590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Corbel"/>
              </a:rPr>
              <a:t>Each different type of light we use within a scene is called a “point” of light. Generally, you will need to work with three “points”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Key light- dominant light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(brightest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Fill light- brings out detail in the shadows cast by Key ligh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ack light- seperates subject from backgrou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(dullest)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ok at existing light sources- eg lamps, tv screens, computer monito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light bounce can be made with the sun (or a 200w lightbulb) and a large sheet of White cardboar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dentify ambient noi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how many noises in this roo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ypes of m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hotgun- direction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use of a directional mic, (a shot gun, or electret) will cut down the surrounding noise. You still need to record in a quiet environment however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Lapel- unidirection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most cameras are uni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aptures audio from the front and to the side of the camera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33520" y="241416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No external mic- do not zoom !!!!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Work in close to your subjec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nd locations with little or no ambient noise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itch within your gro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ch person shares their writing task within their gro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oup decides on one story they think will best suit this projec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ch group has 5 minutes to pitch their chosen idea to the whole group, and field question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ss the bu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your production groups you have 5 min to collate as many roles as you can think of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 minute showdown and then 5 minute clarific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lass of art having a characteristic form or techniqu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film genres can you name 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Reference:  </a:t>
            </a:r>
            <a:r>
              <a:rPr b="0" lang="en-US" sz="3000" spc="-1" strike="noStrike" u="sng">
                <a:solidFill>
                  <a:srgbClr val="168bba"/>
                </a:solidFill>
                <a:uFillTx/>
                <a:latin typeface="Arial"/>
                <a:hlinkClick r:id="rId2"/>
              </a:rPr>
              <a:t>http://www.filmsite.org/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Arial"/>
                <a:ea typeface="Arial"/>
              </a:rPr>
              <a:t>Drift Media © 2008 www.driftmedia.com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0000"/>
          </a:bodyPr>
          <a:p>
            <a:pPr marL="350280" indent="-2548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rbel"/>
              </a:rPr>
              <a:t>Draw your camera and tripod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rbel"/>
              </a:rPr>
              <a:t>.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rbel"/>
              </a:rPr>
              <a:t>Identify the following function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5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Lens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Zoom control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Internal Microphone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Play/ Record switch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Digital Input/ Outpu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5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Viewfinder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External Microphone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On/Off switch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Tape Eject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Playback controls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240v power input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Batter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5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7315200" y="6095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1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meras are dumb!- (Iri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dio- the invisible kill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get in close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ot Types and Framing (handou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duction Positioning (stanc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duction dialogue (slat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530280" y="73080"/>
            <a:ext cx="8163000" cy="1152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vrmsyufu[1]"/>
          <p:cNvPicPr/>
          <p:nvPr/>
        </p:nvPicPr>
        <p:blipFill>
          <a:blip r:embed="rId2"/>
          <a:stretch/>
        </p:blipFill>
        <p:spPr>
          <a:xfrm>
            <a:off x="4822920" y="2571840"/>
            <a:ext cx="3352680" cy="2173320"/>
          </a:xfrm>
          <a:prstGeom prst="rect">
            <a:avLst/>
          </a:prstGeom>
          <a:ln w="0">
            <a:noFill/>
          </a:ln>
        </p:spPr>
      </p:pic>
      <p:sp>
        <p:nvSpPr>
          <p:cNvPr id="371" name="Footer Placeholder 5"/>
          <p:cNvSpPr/>
          <p:nvPr/>
        </p:nvSpPr>
        <p:spPr>
          <a:xfrm>
            <a:off x="57150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Arial"/>
              </a:rPr>
              <a:t>Drift Media © 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Arial"/>
              </a:rPr>
              <a:t>www.driftmedia.com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PH02100J"/>
          <p:cNvPicPr/>
          <p:nvPr/>
        </p:nvPicPr>
        <p:blipFill>
          <a:blip r:embed="rId3"/>
          <a:stretch/>
        </p:blipFill>
        <p:spPr>
          <a:xfrm>
            <a:off x="826920" y="2708280"/>
            <a:ext cx="3386160" cy="22334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7"/>
          <p:cNvSpPr/>
          <p:nvPr/>
        </p:nvSpPr>
        <p:spPr>
          <a:xfrm>
            <a:off x="1803960" y="5013360"/>
            <a:ext cx="16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5836320" y="4997520"/>
            <a:ext cx="16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1026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2914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1 + Image 2= Meaning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Eisenstein 1938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Arial"/>
                <a:ea typeface="Arial"/>
              </a:rPr>
              <a:t>Drift Media © 2008 www.driftmedia.com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0:39:09Z</dcterms:created>
  <dc:creator>Michael Green</dc:creator>
  <dc:description/>
  <dc:language>en-US</dc:language>
  <cp:lastModifiedBy>Michael Green</cp:lastModifiedBy>
  <dcterms:modified xsi:type="dcterms:W3CDTF">2009-05-14T11:56:41Z</dcterms:modified>
  <cp:revision>10</cp:revision>
  <dc:subject/>
  <dc:title>A Point in Time</dc:title>
</cp:coreProperties>
</file>